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E23-ABCE-4888-92BD-78952267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3D2-2875-41A7-A0D8-673CE4FA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1B2-F514-4F8B-8143-A1FA2BB2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8FD-A645-4342-8C2D-B3ED1F5C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726-6CAE-4628-A3A4-5023B84A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CCE-6CE9-44B7-B429-15111BFD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20B-67A6-4391-AB01-580DEED4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8F9-F165-45BF-8409-6FC70CBF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07C-4CE4-464C-A7E7-858174F2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5FA-50F1-4B38-82AA-E864ED6A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4D9-7E40-4F82-BFD4-5CD5CD28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3A3-8B55-4AD9-9FDA-AADCA437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DFB2-9A87-4749-80B3-FE1181F08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A Silver white me used in therm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: Liquid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: 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mer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11680" y="1630440"/>
            <a:ext cx="2770200" cy="2031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29240" y="4343400"/>
            <a:ext cx="180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flow of 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awestru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2-16T16:35:49Z</dcterms:modified>
  <cp:revision>3</cp:revision>
  <dc:subject/>
  <dc:title>PowerPoint Presentation</dc:title>
</cp:coreProperties>
</file>